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E73-857B-437A-9495-47FE186A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A63-FB9A-4A28-9DD3-CE0A87D6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604-F651-4EBB-82DE-8B57D673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C05A-05FC-42D0-B56B-6F3AFBC3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90F-43A3-4293-A212-693CD734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844-EE70-4B85-B07F-3572FE96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8E2-6D0A-46A0-BC31-9F319465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6B2-28E3-4F61-B0B7-D6017ED1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20A-EA0F-4A03-B19F-50FDD2A5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154-C5E7-4676-898D-2739FEE0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823-7696-4DFE-952A-40960888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999-B701-415F-A680-3C030FA4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C132-0D05-4D33-A6E5-B7A2160C2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57200" y="1066680"/>
            <a:ext cx="8229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ting New Failure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are pictures of damage inflicted on an American Airlines B7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w had to make an emergency landing after losing all 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C Transpond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E/VOR functions as well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HF communications during the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5867280"/>
            <a:ext cx="7620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ng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it bull on the loose in the cargo compartment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5:07:10Z</dcterms:created>
  <dc:creator>nwanders</dc:creator>
  <dc:description/>
  <dc:language>en-US</dc:language>
  <cp:lastModifiedBy>Bernd Paspirgilis</cp:lastModifiedBy>
  <dcterms:modified xsi:type="dcterms:W3CDTF">2004-06-11T08:18:06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7814626</vt:r8>
  </property>
  <property fmtid="{D5CDD505-2E9C-101B-9397-08002B2CF9AE}" pid="3" name="_AuthorEmail">
    <vt:lpwstr>c.laporte@spekon.fr</vt:lpwstr>
  </property>
  <property fmtid="{D5CDD505-2E9C-101B-9397-08002B2CF9AE}" pid="4" name="_AuthorEmailDisplayName">
    <vt:lpwstr>Clément LAPORTE</vt:lpwstr>
  </property>
  <property fmtid="{D5CDD505-2E9C-101B-9397-08002B2CF9AE}" pid="5" name="_EmailSubject">
    <vt:lpwstr>Pit-bull</vt:lpwstr>
  </property>
  <property fmtid="{D5CDD505-2E9C-101B-9397-08002B2CF9AE}" pid="6" name="_PreviousAdHocReviewCycleID">
    <vt:r8>398614484</vt:r8>
  </property>
</Properties>
</file>