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1F0-8297-42C8-A73A-BF5FD148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76D-1772-42C0-9E9A-DFF472F2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CA10-E893-4E9D-A176-740283F2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7676-8BC1-43C3-8B00-0D171EE0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15D4-1B6F-4C7C-A378-DDFDC923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9463-5BD6-4017-96A5-05388A8F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20F-558E-4DB2-BAB9-491F0694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9BD1-1833-4554-A0AE-A85A6C64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E9E3-E813-426F-B12D-74A2C40A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24A-7E19-456A-82CA-D177AA08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27F-749D-42E6-B5FE-532F1B91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191-7CE8-4C38-B1F4-CCB20FE0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F54D-15B2-4129-8AC7-1EABFA44B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457200" y="1066680"/>
            <a:ext cx="82296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esting New Failure Mecha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are pictures of damage inflicted on an American Airlines B7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w had to make an emergency landing after losing all </a:t>
            </a: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C Transpond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ME/VOR functions as well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HF communications during the f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5867280"/>
            <a:ext cx="7620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ng 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it bull on the loose in the cargo compartment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15:07:10Z</dcterms:created>
  <dc:creator>nwanders</dc:creator>
  <dc:description/>
  <dc:language>en-US</dc:language>
  <cp:lastModifiedBy>Bernd Paspirgilis</cp:lastModifiedBy>
  <dcterms:modified xsi:type="dcterms:W3CDTF">2004-06-11T08:18:06Z</dcterms:modified>
  <cp:revision>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17814626</vt:r8>
  </property>
  <property fmtid="{D5CDD505-2E9C-101B-9397-08002B2CF9AE}" pid="3" name="_AuthorEmail">
    <vt:lpwstr>c.laporte@spekon.fr</vt:lpwstr>
  </property>
  <property fmtid="{D5CDD505-2E9C-101B-9397-08002B2CF9AE}" pid="4" name="_AuthorEmailDisplayName">
    <vt:lpwstr>Clément LAPORTE</vt:lpwstr>
  </property>
  <property fmtid="{D5CDD505-2E9C-101B-9397-08002B2CF9AE}" pid="5" name="_EmailSubject">
    <vt:lpwstr>Pit-bull</vt:lpwstr>
  </property>
  <property fmtid="{D5CDD505-2E9C-101B-9397-08002B2CF9AE}" pid="6" name="_PreviousAdHocReviewCycleID">
    <vt:r8>398614484</vt:r8>
  </property>
</Properties>
</file>