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87E-E36D-4019-BB7F-36847781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EB1-08F7-4F1E-A572-BB4D1134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0CA-F31B-4515-8EF2-AEFBF2D9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84D-CC17-405D-AF20-3F3CE6BA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E39-5B50-4E74-A9E7-5ECB7C1D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79F-D9C9-42F7-8EFF-5982097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77C-FACE-435E-8FBD-CCF357C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75E-D496-4722-A8EA-2B3334E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8C9-133A-4AF9-88C1-58924FB5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586-A734-4D12-AB6E-55AB823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29F-56E8-437D-9874-341CE5A1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CAA-CD26-457E-99F5-ED23F3B7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9A6C-95FE-4B46-86BB-8FAB9586E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" y="1066680"/>
            <a:ext cx="8229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ing New Failure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are pictures of damage inflicted on an American Airlines B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w had to make an emergency landing after losing all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C Transpo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/VOR functions as well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HF communications dur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586728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ng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t bull on the loose in the cargo compartment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7:10Z</dcterms:created>
  <dc:creator>nwanders</dc:creator>
  <dc:description/>
  <dc:language>en-US</dc:language>
  <cp:lastModifiedBy>Bernd Paspirgilis</cp:lastModifiedBy>
  <dcterms:modified xsi:type="dcterms:W3CDTF">2004-06-11T08:18:0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7814626</vt:r8>
  </property>
  <property fmtid="{D5CDD505-2E9C-101B-9397-08002B2CF9AE}" pid="3" name="_AuthorEmail">
    <vt:lpwstr>c.laporte@spekon.fr</vt:lpwstr>
  </property>
  <property fmtid="{D5CDD505-2E9C-101B-9397-08002B2CF9AE}" pid="4" name="_AuthorEmailDisplayName">
    <vt:lpwstr>Clément LAPORTE</vt:lpwstr>
  </property>
  <property fmtid="{D5CDD505-2E9C-101B-9397-08002B2CF9AE}" pid="5" name="_EmailSubject">
    <vt:lpwstr>Pit-bull</vt:lpwstr>
  </property>
  <property fmtid="{D5CDD505-2E9C-101B-9397-08002B2CF9AE}" pid="6" name="_PreviousAdHocReviewCycleID">
    <vt:r8>398614484</vt:r8>
  </property>
</Properties>
</file>