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6D13-3593-4A71-BF23-CEF31EE39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F7F1-D1AF-4862-A87A-42FFAF38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1B0F-8A05-40C4-88A7-2FE0AB2C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EA1A-E058-445C-8BA9-CC87A4D66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FBB9-C032-4999-937D-1CBC398A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2AF1-DB2F-4046-911F-56AF801E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9E85-1469-4609-91B0-39424D5A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3623-B176-4DBD-A187-07A8B37E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3CA4-72BF-4DBD-B268-9556B5C4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6A6B-8793-4C79-9659-8BC45F84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E3D6-8709-4FB5-BF29-BED7FEF4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8325-426D-4859-8FB2-69C02B19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7AA7-48F4-4435-B9B5-63586616F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457200" y="1066680"/>
            <a:ext cx="82296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esting New Failure Mechan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ing are pictures of damage inflicted on an American Airlines B7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w had to make an emergency landing after losing all </a:t>
            </a:r>
            <a:br>
              <a:rPr sz="1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A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C Transpond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ME/VOR functions as well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HF communications during the f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5867280"/>
            <a:ext cx="76201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ibuting cau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Pit bull on the loose in the cargo compartment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0T15:07:10Z</dcterms:created>
  <dc:creator>nwanders</dc:creator>
  <dc:description/>
  <dc:language>en-US</dc:language>
  <cp:lastModifiedBy>Bernd Paspirgilis</cp:lastModifiedBy>
  <dcterms:modified xsi:type="dcterms:W3CDTF">2004-06-11T08:18:06Z</dcterms:modified>
  <cp:revision>2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17814626</vt:r8>
  </property>
  <property fmtid="{D5CDD505-2E9C-101B-9397-08002B2CF9AE}" pid="3" name="_AuthorEmail">
    <vt:lpwstr>c.laporte@spekon.fr</vt:lpwstr>
  </property>
  <property fmtid="{D5CDD505-2E9C-101B-9397-08002B2CF9AE}" pid="4" name="_AuthorEmailDisplayName">
    <vt:lpwstr>Clément LAPORTE</vt:lpwstr>
  </property>
  <property fmtid="{D5CDD505-2E9C-101B-9397-08002B2CF9AE}" pid="5" name="_EmailSubject">
    <vt:lpwstr>Pit-bull</vt:lpwstr>
  </property>
  <property fmtid="{D5CDD505-2E9C-101B-9397-08002B2CF9AE}" pid="6" name="_PreviousAdHocReviewCycleID">
    <vt:r8>398614484</vt:r8>
  </property>
</Properties>
</file>