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EFC9-0CD8-4BFF-9699-1E717FF7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6258-3C95-41C8-A0DE-908F702B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CB15-922A-40CA-9534-125AE0153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B852-D121-4409-9E94-5369C7BFF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1854-2C50-4057-8A70-908CB9B0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FA56-D9B8-4E42-A629-C6DA4222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920-E12B-4762-B9D0-3D1B4EF1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6070-C7F1-4E14-9F1C-9E02AC3F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E825-DD9F-4876-BE0C-8B4967F07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4DAD-FAE2-4F3F-9986-E309E2A1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446F-D69E-4C97-BE30-96267FEE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A5C-8035-4FBF-AA2D-17240FBB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5F1F-100E-4741-9627-CF499D559B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457200" y="1066680"/>
            <a:ext cx="822960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teresting New Failure Mechani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ing are pictures of damage inflicted on an American Airlines B75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w had to make an emergency landing after losing all </a:t>
            </a:r>
            <a:br>
              <a:rPr sz="1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C Transponder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ME/VOR functions as well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HF communications during the f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3880" y="5867280"/>
            <a:ext cx="76201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ributing 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Pit bull on the loose in the cargo compartment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0T15:07:10Z</dcterms:created>
  <dc:creator>nwanders</dc:creator>
  <dc:description/>
  <dc:language>en-US</dc:language>
  <cp:lastModifiedBy>Bernd Paspirgilis</cp:lastModifiedBy>
  <dcterms:modified xsi:type="dcterms:W3CDTF">2004-06-11T08:18:06Z</dcterms:modified>
  <cp:revision>2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17814626</vt:r8>
  </property>
  <property fmtid="{D5CDD505-2E9C-101B-9397-08002B2CF9AE}" pid="3" name="_AuthorEmail">
    <vt:lpwstr>c.laporte@spekon.fr</vt:lpwstr>
  </property>
  <property fmtid="{D5CDD505-2E9C-101B-9397-08002B2CF9AE}" pid="4" name="_AuthorEmailDisplayName">
    <vt:lpwstr>Clément LAPORTE</vt:lpwstr>
  </property>
  <property fmtid="{D5CDD505-2E9C-101B-9397-08002B2CF9AE}" pid="5" name="_EmailSubject">
    <vt:lpwstr>Pit-bull</vt:lpwstr>
  </property>
  <property fmtid="{D5CDD505-2E9C-101B-9397-08002B2CF9AE}" pid="6" name="_PreviousAdHocReviewCycleID">
    <vt:r8>398614484</vt:r8>
  </property>
</Properties>
</file>