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D8D-ED7E-42AD-BE64-B4294036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FC6-41A5-45FF-AF4F-A1ED59E9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A97-67B0-4E25-89FB-5FBE9F6E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00E-D06B-4EDC-8FEA-8891A050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8E17-C42D-4436-8F04-144C1888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F99-E128-42BA-80EF-5BFF44A6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B2E-8DBC-40D5-ADCA-1B4FDF10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574-DD55-428B-938B-AEA8CD24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296F-BBE0-4240-9758-8DA96532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CF9-9FFC-40F8-A20B-876F9A71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A1A8-31AD-4E03-979B-233FC6F6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82E-62D7-4E30-9FFC-8E564E27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3D45-B6ED-482F-9BEB-2BA7FE813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57200" y="1066680"/>
            <a:ext cx="8229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ing New Failure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are pictures of damage inflicted on an American Airlines B7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w had to make an emergency landing after losing all 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C Transpond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E/VOR functions as well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HF communications during the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5867280"/>
            <a:ext cx="7620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ng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it bull on the loose in the cargo compartment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5:07:10Z</dcterms:created>
  <dc:creator>nwanders</dc:creator>
  <dc:description/>
  <dc:language>en-US</dc:language>
  <cp:lastModifiedBy>Bernd Paspirgilis</cp:lastModifiedBy>
  <dcterms:modified xsi:type="dcterms:W3CDTF">2004-06-11T08:18:06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7814626</vt:r8>
  </property>
  <property fmtid="{D5CDD505-2E9C-101B-9397-08002B2CF9AE}" pid="3" name="_AuthorEmail">
    <vt:lpwstr>c.laporte@spekon.fr</vt:lpwstr>
  </property>
  <property fmtid="{D5CDD505-2E9C-101B-9397-08002B2CF9AE}" pid="4" name="_AuthorEmailDisplayName">
    <vt:lpwstr>Clément LAPORTE</vt:lpwstr>
  </property>
  <property fmtid="{D5CDD505-2E9C-101B-9397-08002B2CF9AE}" pid="5" name="_EmailSubject">
    <vt:lpwstr>Pit-bull</vt:lpwstr>
  </property>
  <property fmtid="{D5CDD505-2E9C-101B-9397-08002B2CF9AE}" pid="6" name="_PreviousAdHocReviewCycleID">
    <vt:r8>398614484</vt:r8>
  </property>
</Properties>
</file>