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6F02-9224-4928-BD34-0BE2AC6ED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C3CE-71DE-4F0F-AA07-D4682BAB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BB0C-B679-4334-A1DC-0366CCA8C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4549-5198-4ADD-BCEC-3A52F03BF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ED7B-6202-4A71-96B1-A882AF34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062A-16A1-42B8-9EC2-0E15C36E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1ECA-1974-4844-B212-FA529978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F076-497C-4B06-BDFB-59D91A11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E45D-3716-413B-AF3D-CB32A849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ECA1-A90A-43FD-A0E9-7B5DDB8C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EF85-85D9-425C-9843-D53D094A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C927-680D-42CF-A83D-9983A0AF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3635-695F-47C7-89F9-5E6C903B1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457200" y="1066680"/>
            <a:ext cx="82296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esting New Failure Mechan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ing are pictures of damage inflicted on an American Airlines B7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w had to make an emergency landing after losing all </a:t>
            </a:r>
            <a:br>
              <a:rPr sz="1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A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C Transpond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ME/VOR functions as well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HF communications during the f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5867280"/>
            <a:ext cx="76201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ibuting cau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Pit bull on the loose in the cargo compartment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0T15:07:10Z</dcterms:created>
  <dc:creator>nwanders</dc:creator>
  <dc:description/>
  <dc:language>en-US</dc:language>
  <cp:lastModifiedBy>Bernd Paspirgilis</cp:lastModifiedBy>
  <dcterms:modified xsi:type="dcterms:W3CDTF">2004-06-11T08:18:06Z</dcterms:modified>
  <cp:revision>2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17814626</vt:r8>
  </property>
  <property fmtid="{D5CDD505-2E9C-101B-9397-08002B2CF9AE}" pid="3" name="_AuthorEmail">
    <vt:lpwstr>c.laporte@spekon.fr</vt:lpwstr>
  </property>
  <property fmtid="{D5CDD505-2E9C-101B-9397-08002B2CF9AE}" pid="4" name="_AuthorEmailDisplayName">
    <vt:lpwstr>Clément LAPORTE</vt:lpwstr>
  </property>
  <property fmtid="{D5CDD505-2E9C-101B-9397-08002B2CF9AE}" pid="5" name="_EmailSubject">
    <vt:lpwstr>Pit-bull</vt:lpwstr>
  </property>
  <property fmtid="{D5CDD505-2E9C-101B-9397-08002B2CF9AE}" pid="6" name="_PreviousAdHocReviewCycleID">
    <vt:r8>398614484</vt:r8>
  </property>
</Properties>
</file>